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50F3-20E6-4401-9388-6627E3F1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AE14-406B-4830-8719-4A1C1E14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C496-68F2-4F7B-8ED8-85735968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E36D-AA2A-42D6-ABB6-AF12B520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1415-8EEB-409B-8B38-3C186890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AD93-0EE5-40A4-908B-E27EE942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54AE-F29A-4A96-B846-9A65E92E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9B8E-25F7-45F1-88F0-48FBC041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04D9-A974-41FF-BD1B-A682CC0F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E60A-8324-416F-9F05-0B6ACE8A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1AA1-E18B-4AA4-9E2E-42D03E92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86C9-D3C8-4429-97F2-3A5D3C7C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CA76-9982-4061-ABD0-1991D570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73DC-5BA2-4ACC-A407-CD7F3DC6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D8D7-27DF-44F7-A5BE-0E8906D4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DA4A-4998-4712-B210-08E596F8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A397-C205-4974-AA47-6739FB8A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74AC-644D-4305-BCCB-3CAF16E3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44F4-6FA0-4008-BA45-E4613A91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2370-4649-4F40-BFE3-E067DC02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9582-E872-46E4-ADC9-6C55D0F8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4F81-5417-448C-817F-5E10C72A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8CBD-D3E2-481B-B9A9-F8617781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1C1A-5688-4228-945F-C54FA4EB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6A98-256C-4DAE-9D2A-52397FE8ABF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EAA8-18FE-4AB9-B056-BF0E0C4F828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48680" y="856800"/>
            <a:ext cx="673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r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U N I V E R S I T À     D E G L I      S T U D I   D I   C A T A N I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r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F   A   C   O   L   T   À        D   I        I   N   G   E   G  N   E   R   I  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r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Corso   di       Ingegneria Costie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54080" y="3619080"/>
            <a:ext cx="704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sercitazione 1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rasposizione geografica di dati ondametric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52560" y="822240"/>
            <a:ext cx="885600" cy="936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101080" y="189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86E7-6BC9-41B1-A3A6-84BE9E0E3D81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sposizione geograf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101080" y="189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CC94-44AC-46A1-907E-78315D8940DB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2419920"/>
            <a:ext cx="75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Solo una parte limitata delle coste italiane è sufficientemente vicina ad uno degli ondametri RON da permettere l’impiego diretto dei dati registrati da boa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3859560"/>
            <a:ext cx="75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È necessario ricorrere ad un metodo che consenta di “trasporre” geograficamente le misure ondametriche dal punto di misura a quello di interess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76720" y="335772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4940640"/>
            <a:ext cx="756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8560" indent="-898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potesi: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- il sito dell’ondametro e l’area di interesse siano interessate da un moto ondoso generato dalle stesse condizioni di vento (velocità e direzione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898560" indent="-898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- le aree di generazione del moto ondoso possano essere descritte attraverso il concetto di “fetch efficace”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sposizione geograf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101080" y="189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F5D4-3E1F-4238-A859-5D8633E2021B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2492280"/>
            <a:ext cx="781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l metodo consiste nel determinare la corrispondenza tra le direzioni, le altezze ed i periodi del moto ondoso relativi al punto di misura e a quello di interesse. E’ opportuno sottolineare come normalmente il metodo ha validità soprattutto per le mareggiate molto intens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53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979640" y="5229360"/>
                <a:ext cx="20574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X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508720" y="5229360"/>
                <a:ext cx="21510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7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X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971640" y="422100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Nel caso di fetch limitati l’altezza e il periodo d’onda possono essere ricavati dalle relazioni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sposizione geograf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101080" y="189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736B-18BE-4AC5-9B26-CE5F6CE9C4F7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256536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a cui si può ricavare la legge di corrispondenza tra i valori relativi al punto di misura (indicati con o) e al punto di trasposizion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195640" y="3645000"/>
                <a:ext cx="12556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O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867280" y="3645000"/>
                <a:ext cx="1181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O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116000" y="4869000"/>
            <a:ext cx="770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Per ottenere le precedenti relazioni si deve ovviamente supporre che il fattore limitante degli eventi sia il fetch e non la durata del vento (ipotesi spesso ragionevole per l’analisi degli eventi estremi, ma meno per lo studio dell’azione medie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sposizione geograf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01080" y="189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7EFA-8BB3-47D0-AD7E-219BF006631E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2708280"/>
            <a:ext cx="4392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Il metodo si completa utilizzando la legge proposta da Leenknecht et al. (1992) che stabilisce il legame tra la direzione media del vento e la direzione media del moto ondoso da esso generato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In particolare, la direzione formata tra le direzioni di propagazione del vento e del moto ondoso si ricava massimizzando la funzion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836720" y="5948280"/>
                <a:ext cx="21049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φ</m:t>
                        </m:r>
                      </m:sub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p>
                    </m:sSub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φ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640480" y="2349360"/>
            <a:ext cx="35035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10:43:35Z</dcterms:created>
  <dc:creator>Rosaria Musumeci</dc:creator>
  <dc:description/>
  <dc:language>en-US</dc:language>
  <cp:lastModifiedBy>m</cp:lastModifiedBy>
  <dcterms:modified xsi:type="dcterms:W3CDTF">2010-05-24T15:06:23Z</dcterms:modified>
  <cp:revision>168</cp:revision>
  <dc:subject/>
  <dc:title>La relazione di dispersione</dc:title>
</cp:coreProperties>
</file>